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93FC-6E86-4D9B-A6E7-0B8E3141C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7F3E-A0D9-4572-949B-2C7CFD351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7EC1-633A-49E1-94AF-3652AF5CC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5A12-195D-4687-A0E5-D63594D7A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54AD-BA87-4E02-944A-9CFEC9ACA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7B42-2163-4B65-A32C-C1303CBB3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7D80-6F63-49DF-B76F-E8047E3BE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A1A8-4309-47C6-993F-ADE99692A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D824-79DB-40B9-8452-8061B48A9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2B20-6D74-4908-AAB0-27E59D71F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807B-FD58-40AD-AEFA-929B74135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2863-EE0A-4ADD-9A52-F236E7454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A6553-C472-4A77-A8E2-DB73673ABC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17960" y="4343400"/>
            <a:ext cx="901440" cy="2872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9ab2c1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58920" y="868320"/>
            <a:ext cx="8292960" cy="5486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614760" y="1187280"/>
            <a:ext cx="1779480" cy="393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3920" y="1851120"/>
            <a:ext cx="1542960" cy="466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esident (CE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" name=""/>
          <p:cNvCxnSpPr>
            <a:stCxn id="43" idx="2"/>
            <a:endCxn id="44" idx="0"/>
          </p:cNvCxnSpPr>
          <p:nvPr/>
        </p:nvCxnSpPr>
        <p:spPr>
          <a:xfrm>
            <a:off x="4504320" y="1581120"/>
            <a:ext cx="1440" cy="27036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46" name=""/>
          <p:cNvCxnSpPr>
            <a:stCxn id="44" idx="2"/>
            <a:endCxn id="47" idx="0"/>
          </p:cNvCxnSpPr>
          <p:nvPr/>
        </p:nvCxnSpPr>
        <p:spPr>
          <a:xfrm flipH="1">
            <a:off x="4502160" y="2317680"/>
            <a:ext cx="3600" cy="93060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4" idx="2"/>
            <a:endCxn id="49" idx="0"/>
          </p:cNvCxnSpPr>
          <p:nvPr/>
        </p:nvCxnSpPr>
        <p:spPr>
          <a:xfrm rot="5400000">
            <a:off x="2755800" y="1500480"/>
            <a:ext cx="932400" cy="2566800"/>
          </a:xfrm>
          <a:prstGeom prst="bentConnector3">
            <a:avLst>
              <a:gd name="adj1" fmla="val 50714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4" idx="2"/>
            <a:endCxn id="51" idx="0"/>
          </p:cNvCxnSpPr>
          <p:nvPr/>
        </p:nvCxnSpPr>
        <p:spPr>
          <a:xfrm flipH="1" rot="16200000">
            <a:off x="5327280" y="1495800"/>
            <a:ext cx="930600" cy="2574360"/>
          </a:xfrm>
          <a:prstGeom prst="bentConnector3">
            <a:avLst>
              <a:gd name="adj1" fmla="val 50696"/>
            </a:avLst>
          </a:prstGeom>
          <a:ln w="12600">
            <a:solidFill>
              <a:srgbClr val="000000"/>
            </a:solidFill>
            <a:miter/>
          </a:ln>
        </p:spPr>
      </p:cxnSp>
      <p:sp>
        <p:nvSpPr>
          <p:cNvPr id="52" name=""/>
          <p:cNvSpPr/>
          <p:nvPr/>
        </p:nvSpPr>
        <p:spPr>
          <a:xfrm>
            <a:off x="2309760" y="2374920"/>
            <a:ext cx="954000" cy="312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ud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" name=""/>
          <p:cNvCxnSpPr>
            <a:stCxn id="52" idx="3"/>
            <a:endCxn id="44" idx="2"/>
          </p:cNvCxnSpPr>
          <p:nvPr/>
        </p:nvCxnSpPr>
        <p:spPr>
          <a:xfrm flipV="1">
            <a:off x="3263760" y="2317680"/>
            <a:ext cx="1242000" cy="21384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49" name=""/>
          <p:cNvSpPr/>
          <p:nvPr/>
        </p:nvSpPr>
        <p:spPr>
          <a:xfrm>
            <a:off x="736560" y="3249720"/>
            <a:ext cx="2405160" cy="450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74880" y="3336840"/>
            <a:ext cx="192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ce-President: S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362400" y="3247920"/>
            <a:ext cx="2279520" cy="446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ice-President: Fin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Chief Financial Officer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877000" y="3247920"/>
            <a:ext cx="2405160" cy="451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888160" y="3336840"/>
            <a:ext cx="237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ce-President: Manufactu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19320" y="4344840"/>
            <a:ext cx="1008000" cy="297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easur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022720" y="4324320"/>
            <a:ext cx="1108080" cy="303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trol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" name=""/>
          <p:cNvCxnSpPr>
            <a:stCxn id="47" idx="2"/>
            <a:endCxn id="56" idx="0"/>
          </p:cNvCxnSpPr>
          <p:nvPr/>
        </p:nvCxnSpPr>
        <p:spPr>
          <a:xfrm rot="5400000">
            <a:off x="3687120" y="3530160"/>
            <a:ext cx="651240" cy="979200"/>
          </a:xfrm>
          <a:prstGeom prst="bentConnector3">
            <a:avLst>
              <a:gd name="adj1" fmla="val 50940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59" name=""/>
          <p:cNvCxnSpPr>
            <a:stCxn id="47" idx="2"/>
            <a:endCxn id="57" idx="0"/>
          </p:cNvCxnSpPr>
          <p:nvPr/>
        </p:nvCxnSpPr>
        <p:spPr>
          <a:xfrm flipH="1" rot="16200000">
            <a:off x="4724280" y="3471480"/>
            <a:ext cx="630720" cy="1074960"/>
          </a:xfrm>
          <a:prstGeom prst="bentConnector3">
            <a:avLst>
              <a:gd name="adj1" fmla="val 50999"/>
            </a:avLst>
          </a:prstGeom>
          <a:ln w="12600">
            <a:solidFill>
              <a:srgbClr val="000000"/>
            </a:solidFill>
            <a:miter/>
          </a:ln>
        </p:spPr>
      </p:cxnSp>
      <p:sp>
        <p:nvSpPr>
          <p:cNvPr id="60" name=""/>
          <p:cNvSpPr/>
          <p:nvPr/>
        </p:nvSpPr>
        <p:spPr>
          <a:xfrm>
            <a:off x="5024520" y="5324400"/>
            <a:ext cx="2484360" cy="84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90440" indent="-19044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st Accounting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ancial account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x department and account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521000" y="5324400"/>
            <a:ext cx="2506320" cy="84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90440" indent="-19044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rketable securitie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pital structur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dit managemen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entory managemen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pital budgeting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2" name=""/>
          <p:cNvCxnSpPr>
            <a:stCxn id="61" idx="0"/>
            <a:endCxn id="56" idx="2"/>
          </p:cNvCxnSpPr>
          <p:nvPr/>
        </p:nvCxnSpPr>
        <p:spPr>
          <a:xfrm flipV="1">
            <a:off x="2774160" y="4641840"/>
            <a:ext cx="749520" cy="68292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63" name=""/>
          <p:cNvCxnSpPr>
            <a:stCxn id="60" idx="0"/>
            <a:endCxn id="57" idx="2"/>
          </p:cNvCxnSpPr>
          <p:nvPr/>
        </p:nvCxnSpPr>
        <p:spPr>
          <a:xfrm flipH="1" flipV="1">
            <a:off x="5576760" y="4627440"/>
            <a:ext cx="690120" cy="69732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1133640" y="804960"/>
            <a:ext cx="6918120" cy="5705280"/>
            <a:chOff x="1133640" y="804960"/>
            <a:chExt cx="6918120" cy="5705280"/>
          </a:xfrm>
        </p:grpSpPr>
        <p:sp>
          <p:nvSpPr>
            <p:cNvPr id="65" name=""/>
            <p:cNvSpPr/>
            <p:nvPr/>
          </p:nvSpPr>
          <p:spPr>
            <a:xfrm>
              <a:off x="1133640" y="804960"/>
              <a:ext cx="6918120" cy="5705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809880" y="2747880"/>
              <a:ext cx="1522440" cy="1327320"/>
            </a:xfrm>
            <a:prstGeom prst="pentagon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852720" y="3271680"/>
              <a:ext cx="145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usine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555920" y="3886200"/>
              <a:ext cx="1228680" cy="838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542960" y="4137120"/>
              <a:ext cx="125424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ustomer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476600" y="4397400"/>
              <a:ext cx="0" cy="884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4692240" y="4433760"/>
              <a:ext cx="3240" cy="835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367080" y="4875120"/>
              <a:ext cx="927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aw material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894200" y="5019840"/>
              <a:ext cx="901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one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541840" y="3665520"/>
              <a:ext cx="827280" cy="254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flipV="1">
              <a:off x="5457960" y="3855960"/>
              <a:ext cx="839520" cy="247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245200" y="4135320"/>
              <a:ext cx="1298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quity Capit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680080" y="3316320"/>
              <a:ext cx="1378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ividends and capital gain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V="1">
              <a:off x="2790720" y="3654360"/>
              <a:ext cx="831960" cy="295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2836440" y="3870360"/>
              <a:ext cx="801720" cy="29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738520" y="4214880"/>
              <a:ext cx="13906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ducts and servic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425680" y="3516480"/>
              <a:ext cx="674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one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14680" y="1973160"/>
              <a:ext cx="584280" cy="67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 flipV="1">
              <a:off x="3335040" y="2076480"/>
              <a:ext cx="563400" cy="673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649680" y="1898640"/>
              <a:ext cx="1173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oan capit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451240" y="2157480"/>
              <a:ext cx="83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tere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5087880" y="1936440"/>
              <a:ext cx="557280" cy="679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235480" y="2100240"/>
              <a:ext cx="573120" cy="69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556160" y="1874880"/>
              <a:ext cx="927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a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646600" y="2311560"/>
              <a:ext cx="927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255760" y="1195560"/>
              <a:ext cx="1228680" cy="838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374920" y="1461960"/>
              <a:ext cx="988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anker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584680" y="1187280"/>
              <a:ext cx="1229040" cy="8384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707080" y="1454040"/>
              <a:ext cx="984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ocie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424560" y="3884760"/>
              <a:ext cx="1228680" cy="838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512040" y="4151160"/>
              <a:ext cx="1052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vestor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968640" y="5416560"/>
              <a:ext cx="1228680" cy="838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970440" y="5683320"/>
              <a:ext cx="1225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upplier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1271520" y="1174680"/>
            <a:ext cx="5743800" cy="2824200"/>
            <a:chOff x="1271520" y="1174680"/>
            <a:chExt cx="5743800" cy="2824200"/>
          </a:xfrm>
        </p:grpSpPr>
        <p:sp>
          <p:nvSpPr>
            <p:cNvPr id="99" name=""/>
            <p:cNvSpPr/>
            <p:nvPr/>
          </p:nvSpPr>
          <p:spPr>
            <a:xfrm>
              <a:off x="1271520" y="1174680"/>
              <a:ext cx="5743800" cy="2824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619280" y="1371600"/>
              <a:ext cx="3009960" cy="22860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066760" y="2971800"/>
              <a:ext cx="2114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525760" y="2286000"/>
              <a:ext cx="1198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738680" y="3125880"/>
              <a:ext cx="22068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hysical Production and Distribution Process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738680" y="2454120"/>
              <a:ext cx="1971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rogrammed Monitoring and Decision Process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738680" y="1771560"/>
              <a:ext cx="15969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on Programmed Process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324160" y="1905120"/>
              <a:ext cx="1600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trategi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324160" y="2590920"/>
              <a:ext cx="1600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actic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324160" y="3276720"/>
              <a:ext cx="1600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peration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12720" y="1673280"/>
            <a:ext cx="8293320" cy="3125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66960" y="1884240"/>
            <a:ext cx="2279520" cy="600120"/>
          </a:xfrm>
          <a:custGeom>
            <a:avLst/>
            <a:gdLst>
              <a:gd name="textAreaLeft" fmla="*/ 0 w 2279520"/>
              <a:gd name="textAreaRight" fmla="*/ 2279880 w 2279520"/>
              <a:gd name="textAreaTop" fmla="*/ 0 h 600120"/>
              <a:gd name="textAreaBottom" fmla="*/ 600480 h 600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434" y="0"/>
                </a:lnTo>
                <a:lnTo>
                  <a:pt x="21600" y="10800"/>
                </a:lnTo>
                <a:lnTo>
                  <a:pt x="1943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9ab2c1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676680" y="1879560"/>
            <a:ext cx="2279520" cy="600120"/>
          </a:xfrm>
          <a:custGeom>
            <a:avLst/>
            <a:gdLst>
              <a:gd name="textAreaLeft" fmla="*/ 0 w 2279520"/>
              <a:gd name="textAreaRight" fmla="*/ 2279880 w 2279520"/>
              <a:gd name="textAreaTop" fmla="*/ 0 h 600120"/>
              <a:gd name="textAreaBottom" fmla="*/ 600480 h 600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434" y="0"/>
                </a:lnTo>
                <a:lnTo>
                  <a:pt x="21600" y="10800"/>
                </a:lnTo>
                <a:lnTo>
                  <a:pt x="1943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9ab2c1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388200" y="1879560"/>
            <a:ext cx="2279520" cy="600120"/>
          </a:xfrm>
          <a:custGeom>
            <a:avLst/>
            <a:gdLst>
              <a:gd name="textAreaLeft" fmla="*/ 0 w 2279520"/>
              <a:gd name="textAreaRight" fmla="*/ 2279880 w 2279520"/>
              <a:gd name="textAreaTop" fmla="*/ 0 h 600120"/>
              <a:gd name="textAreaBottom" fmla="*/ 600480 h 600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434" y="0"/>
                </a:lnTo>
                <a:lnTo>
                  <a:pt x="21600" y="10800"/>
                </a:lnTo>
                <a:lnTo>
                  <a:pt x="1943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9ab2c1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69840" y="1938240"/>
            <a:ext cx="181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679920" y="1940040"/>
            <a:ext cx="181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alu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391440" y="1940040"/>
            <a:ext cx="181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c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66960" y="2752560"/>
            <a:ext cx="193824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5400" indent="-954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gnize the problem/ opportun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n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fy objec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 alterna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670200" y="2752560"/>
            <a:ext cx="1938600" cy="166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5400" indent="-954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fy cri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 uncertain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e alterna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arch for ins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recommend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384960" y="2752560"/>
            <a:ext cx="1938240" cy="11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5400" indent="-954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dec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lement ch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itor develop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271520" y="1174680"/>
            <a:ext cx="6308640" cy="2824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619280" y="1371600"/>
            <a:ext cx="3009960" cy="22860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057400" y="2971800"/>
            <a:ext cx="2133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25760" y="2286000"/>
            <a:ext cx="1189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738680" y="3125880"/>
            <a:ext cx="2616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cisions that will be addressed during implem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738680" y="2454120"/>
            <a:ext cx="2614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cisions that require focus now to solve the current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738680" y="1771560"/>
            <a:ext cx="2428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cisions that have been made and cannot be rever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24160" y="190512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lic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324160" y="259092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rateg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324160" y="327672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ctic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1765440"/>
            <a:ext cx="324000" cy="447480"/>
          </a:xfrm>
          <a:prstGeom prst="rightArrow">
            <a:avLst>
              <a:gd name="adj1" fmla="val 45389"/>
              <a:gd name="adj2" fmla="val 59806"/>
            </a:avLst>
          </a:prstGeom>
          <a:gradFill rotWithShape="0">
            <a:gsLst>
              <a:gs pos="0">
                <a:srgbClr val="ccecff"/>
              </a:gs>
              <a:gs pos="100000">
                <a:srgbClr val="9ab2c1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2457360"/>
            <a:ext cx="324000" cy="447840"/>
          </a:xfrm>
          <a:prstGeom prst="rightArrow">
            <a:avLst>
              <a:gd name="adj1" fmla="val 45389"/>
              <a:gd name="adj2" fmla="val 59806"/>
            </a:avLst>
          </a:prstGeom>
          <a:gradFill rotWithShape="0">
            <a:gsLst>
              <a:gs pos="0">
                <a:srgbClr val="ccecff"/>
              </a:gs>
              <a:gs pos="100000">
                <a:srgbClr val="9ab2c1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267080" y="3124080"/>
            <a:ext cx="324000" cy="447840"/>
          </a:xfrm>
          <a:prstGeom prst="rightArrow">
            <a:avLst>
              <a:gd name="adj1" fmla="val 45389"/>
              <a:gd name="adj2" fmla="val 59806"/>
            </a:avLst>
          </a:prstGeom>
          <a:gradFill rotWithShape="0">
            <a:gsLst>
              <a:gs pos="0">
                <a:srgbClr val="ccecff"/>
              </a:gs>
              <a:gs pos="100000">
                <a:srgbClr val="9ab2c1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"/>
          <p:cNvGrpSpPr/>
          <p:nvPr/>
        </p:nvGrpSpPr>
        <p:grpSpPr>
          <a:xfrm>
            <a:off x="679320" y="1106640"/>
            <a:ext cx="7931160" cy="3247920"/>
            <a:chOff x="679320" y="1106640"/>
            <a:chExt cx="7931160" cy="3247920"/>
          </a:xfrm>
        </p:grpSpPr>
        <p:sp>
          <p:nvSpPr>
            <p:cNvPr id="133" name=""/>
            <p:cNvSpPr/>
            <p:nvPr/>
          </p:nvSpPr>
          <p:spPr>
            <a:xfrm>
              <a:off x="679320" y="1106640"/>
              <a:ext cx="7931160" cy="3247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133640" y="1644480"/>
              <a:ext cx="2436480" cy="20131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63504" dir="2216091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1495440" y="3053880"/>
              <a:ext cx="171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866960" y="2449440"/>
              <a:ext cx="973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609560" y="2119320"/>
              <a:ext cx="1600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olic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609560" y="2733840"/>
              <a:ext cx="1600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trategi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609560" y="3348000"/>
              <a:ext cx="1600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actic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460680" y="2462040"/>
              <a:ext cx="108108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5400" indent="-95400">
                <a:lnSpc>
                  <a:spcPct val="100000"/>
                </a:lnSpc>
                <a:spcBef>
                  <a:spcPts val="62"/>
                </a:spcBef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xplor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95400" indent="-95400">
                <a:lnSpc>
                  <a:spcPct val="100000"/>
                </a:lnSpc>
                <a:spcBef>
                  <a:spcPts val="62"/>
                </a:spcBef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duc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95400" indent="-95400">
                <a:lnSpc>
                  <a:spcPct val="100000"/>
                </a:lnSpc>
                <a:spcBef>
                  <a:spcPts val="62"/>
                </a:spcBef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frastructur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032440" y="1679400"/>
              <a:ext cx="3179520" cy="1951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aeaea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727600" y="1673280"/>
              <a:ext cx="0" cy="19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559560" y="1673280"/>
              <a:ext cx="0" cy="19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91520" y="1673280"/>
              <a:ext cx="0" cy="19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032440" y="2109960"/>
              <a:ext cx="3179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729760" y="1793880"/>
              <a:ext cx="811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xplor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129720" y="1793880"/>
              <a:ext cx="1698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duc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450920" y="1722600"/>
              <a:ext cx="6746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fra-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tructur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889520" y="1716120"/>
              <a:ext cx="9810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trategic Them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727600" y="2424240"/>
              <a:ext cx="847800" cy="94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ption 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lpha Fiel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ption 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ption 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550200" y="2424240"/>
              <a:ext cx="847440" cy="94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latfor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ption 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ption 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ption 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394400" y="2424240"/>
              <a:ext cx="847800" cy="94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ption 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ption 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ption 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ipelin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029200" y="2655720"/>
              <a:ext cx="698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ow cos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770440" y="2660760"/>
              <a:ext cx="750960" cy="204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593040" y="2430360"/>
              <a:ext cx="750600" cy="204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423200" y="3125880"/>
              <a:ext cx="750960" cy="204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035000" y="3808440"/>
              <a:ext cx="2633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ecision Hierarch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300640" y="3794040"/>
              <a:ext cx="2633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trategy T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048120" y="2521080"/>
              <a:ext cx="323640" cy="447480"/>
            </a:xfrm>
            <a:prstGeom prst="rightArrow">
              <a:avLst>
                <a:gd name="adj1" fmla="val 45389"/>
                <a:gd name="adj2" fmla="val 59806"/>
              </a:avLst>
            </a:prstGeom>
            <a:gradFill rotWithShape="0">
              <a:gsLst>
                <a:gs pos="0">
                  <a:srgbClr val="ccecff"/>
                </a:gs>
                <a:gs pos="100000">
                  <a:srgbClr val="9ab2c1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514760" y="2521080"/>
              <a:ext cx="324000" cy="447480"/>
            </a:xfrm>
            <a:prstGeom prst="rightArrow">
              <a:avLst>
                <a:gd name="adj1" fmla="val 45389"/>
                <a:gd name="adj2" fmla="val 59806"/>
              </a:avLst>
            </a:prstGeom>
            <a:gradFill rotWithShape="0">
              <a:gsLst>
                <a:gs pos="0">
                  <a:srgbClr val="ccecff"/>
                </a:gs>
                <a:gs pos="100000">
                  <a:srgbClr val="9ab2c1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278000" y="324000"/>
            <a:ext cx="6565680" cy="2646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550960" y="1490760"/>
            <a:ext cx="819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cep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1611360"/>
            <a:ext cx="126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e-Feasibil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668840" y="1725480"/>
            <a:ext cx="1265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easibil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908680" y="1839960"/>
            <a:ext cx="179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tailed Engineer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366920" y="2490840"/>
            <a:ext cx="86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pprov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722680" y="2378160"/>
            <a:ext cx="136440" cy="136440"/>
          </a:xfrm>
          <a:prstGeom prst="diamond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787480" y="2446200"/>
            <a:ext cx="273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973240" y="2333520"/>
            <a:ext cx="308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373560" y="808200"/>
            <a:ext cx="2880" cy="2155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654440" y="808200"/>
            <a:ext cx="0" cy="216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889600" y="808200"/>
            <a:ext cx="0" cy="21668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 flipV="1">
            <a:off x="2314080" y="331920"/>
            <a:ext cx="1800" cy="2628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496960" y="1717560"/>
            <a:ext cx="881280" cy="7164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005e46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379680" y="1836720"/>
            <a:ext cx="1274760" cy="712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005e46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657680" y="1955880"/>
            <a:ext cx="1230480" cy="712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005e46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889600" y="2076480"/>
            <a:ext cx="1797120" cy="712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005e46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271520" y="906480"/>
            <a:ext cx="1085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usiness Develop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70240" y="925560"/>
            <a:ext cx="952560" cy="398520"/>
          </a:xfrm>
          <a:prstGeom prst="roundRect">
            <a:avLst>
              <a:gd name="adj" fmla="val 27093"/>
            </a:avLst>
          </a:prstGeom>
          <a:gradFill rotWithShape="0">
            <a:gsLst>
              <a:gs pos="0">
                <a:srgbClr val="ccecff"/>
              </a:gs>
              <a:gs pos="100000">
                <a:srgbClr val="9ab2c1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367000" y="906480"/>
            <a:ext cx="965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pportunity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433680" y="925560"/>
            <a:ext cx="1166760" cy="398520"/>
          </a:xfrm>
          <a:prstGeom prst="roundRect">
            <a:avLst>
              <a:gd name="adj" fmla="val 27093"/>
            </a:avLst>
          </a:prstGeom>
          <a:gradFill rotWithShape="0">
            <a:gsLst>
              <a:gs pos="0">
                <a:srgbClr val="ccecff"/>
              </a:gs>
              <a:gs pos="100000">
                <a:srgbClr val="9ab2c1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614760" y="925560"/>
            <a:ext cx="819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usiness Ca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708440" y="925560"/>
            <a:ext cx="1127160" cy="398520"/>
          </a:xfrm>
          <a:prstGeom prst="roundRect">
            <a:avLst>
              <a:gd name="adj" fmla="val 27093"/>
            </a:avLst>
          </a:prstGeom>
          <a:gradFill rotWithShape="0">
            <a:gsLst>
              <a:gs pos="0">
                <a:srgbClr val="ccecff"/>
              </a:gs>
              <a:gs pos="100000">
                <a:srgbClr val="9ab2c1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865760" y="925560"/>
            <a:ext cx="819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usiness Pl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43600" y="925560"/>
            <a:ext cx="1779480" cy="398520"/>
          </a:xfrm>
          <a:prstGeom prst="roundRect">
            <a:avLst>
              <a:gd name="adj" fmla="val 27093"/>
            </a:avLst>
          </a:prstGeom>
          <a:gradFill rotWithShape="0">
            <a:gsLst>
              <a:gs pos="0">
                <a:srgbClr val="ccecff"/>
              </a:gs>
              <a:gs pos="100000">
                <a:srgbClr val="9ab2c1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224760" y="925560"/>
            <a:ext cx="121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inal Business Pl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271520" y="1457280"/>
            <a:ext cx="6586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271520" y="2281320"/>
            <a:ext cx="6569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271520" y="808200"/>
            <a:ext cx="6570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570120" y="401760"/>
            <a:ext cx="213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271520" y="401760"/>
            <a:ext cx="102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936960" y="2378160"/>
            <a:ext cx="136440" cy="136440"/>
          </a:xfrm>
          <a:prstGeom prst="diamond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002120" y="2446200"/>
            <a:ext cx="272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87880" y="2333520"/>
            <a:ext cx="307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156280" y="2378160"/>
            <a:ext cx="136440" cy="136440"/>
          </a:xfrm>
          <a:prstGeom prst="diamond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221440" y="2446200"/>
            <a:ext cx="272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407200" y="2333520"/>
            <a:ext cx="307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683400" y="2378160"/>
            <a:ext cx="136440" cy="136440"/>
          </a:xfrm>
          <a:prstGeom prst="diamond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48560" y="2446200"/>
            <a:ext cx="272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34320" y="2333520"/>
            <a:ext cx="307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49640" y="2595600"/>
            <a:ext cx="120780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6840" indent="-9684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cept next phase pl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322800" y="2602080"/>
            <a:ext cx="1366560" cy="1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6840" indent="-9684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cept next phase pl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9640" y="2629080"/>
            <a:ext cx="1352520" cy="1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6840" indent="-9684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cept next phase pl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878440" y="2635200"/>
            <a:ext cx="1927440" cy="1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6840" indent="-9684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cept implementation pl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71520" y="1495440"/>
            <a:ext cx="104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ngineering Stud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4T15:18:55Z</dcterms:created>
  <dc:creator>frank crundwell</dc:creator>
  <dc:description/>
  <dc:language>en-US</dc:language>
  <cp:lastModifiedBy>frank crundwell</cp:lastModifiedBy>
  <dcterms:modified xsi:type="dcterms:W3CDTF">2007-08-16T16:33:41Z</dcterms:modified>
  <cp:revision>25</cp:revision>
  <dc:subject/>
  <dc:title>PowerPoint Presentation</dc:title>
</cp:coreProperties>
</file>